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029FE-C239-4D98-AC57-AC37653CA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3DCB-C2F5-42AA-99D8-B98E8F717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86C18-3352-4FD6-9DC2-81A116658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AA9A7-FF8D-4F39-B202-8B8F411B5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15653-8D8F-4AC7-B814-C27807EF1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C8EF6-5D7A-41E5-B5A4-D5664580E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85BA8-4463-4237-8545-81C9ADE24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0A5A7-80C3-4B2A-98FD-DB713EB09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254BE-89BF-4CB1-963A-2262AD3A5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059ED-2424-4F12-9B01-6574F7EB1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67AD-2070-4F68-BA31-6155FB86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719B-B4ED-436E-8F63-217C6336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30B23-EA92-47C3-A5BC-F3580FDAD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4F723-ED0C-433E-92FD-936261F8E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C915B-1F8F-4662-A2DC-5C2C603E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FB3AC-79F5-4864-AFC7-9F4F1AFC9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17119-BF86-4D02-AF27-A6E3BB60F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B0912-A0F2-4113-9EDA-953F3BC7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12B4-4236-42F7-B8F4-F51A720F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864F-AFCD-4A87-9137-35BEF821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DB57C-E4C5-412D-AAFC-AD48B93B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F2C5-7610-400C-8980-FAEEF3C3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39A6-185C-420B-B198-75E71375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0036-076D-44FC-8F5F-8F6EF61DF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510D-DB4D-4D5F-B7E4-5D19C78EE7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4789-42E4-4244-BACC-C8CAEB3876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b7e7ff"/>
                </a:solidFill>
                <a:latin typeface="Arial"/>
              </a:rPr>
              <a:t>UNITATEA ŞI DIVERSITATEA LUMII VII</a:t>
            </a:r>
            <a:endParaRPr b="0" lang="en-US" sz="1400" spc="-1" strike="noStrike">
              <a:solidFill>
                <a:srgbClr val="b7e7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a:t>
            </a:r>
            <a:r>
              <a:rPr b="0" lang="ro-RO" sz="1000" spc="-1" strike="noStrike">
                <a:solidFill>
                  <a:srgbClr val="b7e7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1"/>
                                        </p:tgtEl>
                                        <p:attrNameLst>
                                          <p:attrName>style.visibility</p:attrName>
                                        </p:attrNameLst>
                                      </p:cBhvr>
                                      <p:to>
                                        <p:strVal val="visible"/>
                                      </p:to>
                                    </p:set>
                                    <p:animEffect filter="strips(down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1"/>
                                        </p:tgtEl>
                                        <p:attrNameLst>
                                          <p:attrName>style.visibility</p:attrName>
                                        </p:attrNameLst>
                                      </p:cBhvr>
                                      <p:to>
                                        <p:strVal val="visible"/>
                                      </p:to>
                                    </p:set>
                                    <p:animEffect filter="fade" transition="in">
                                      <p:cBhvr additive="repl">
                                        <p:cTn id="12" dur="2000"/>
                                        <p:tgtEl>
                                          <p:spTgt spid="81"/>
                                        </p:tgtEl>
                                      </p:cBhvr>
                                    </p:animEffect>
                                    <p:anim calcmode="lin" valueType="num">
                                      <p:cBhvr additive="repl">
                                        <p:cTn id="13" dur="2000" fill="hold"/>
                                        <p:tgtEl>
                                          <p:spTgt spid="81"/>
                                        </p:tgtEl>
                                        <p:attrNameLst>
                                          <p:attrName>ppt_w</p:attrName>
                                        </p:attrNameLst>
                                      </p:cBhvr>
                                      <p:tavLst>
                                        <p:tav fmla="width*sin(2.5*pi*$)" tm="0">
                                          <p:val>
                                            <p:strVal val="0"/>
                                          </p:val>
                                        </p:tav>
                                        <p:tav fmla="width*sin(2.5*pi*$)" tm="100000">
                                          <p:val>
                                            <p:strVal val="1"/>
                                          </p:val>
                                        </p:tav>
                                      </p:tavLst>
                                    </p:anim>
                                    <p:anim calcmode="lin" valueType="num">
                                      <p:cBhvr additive="repl">
                                        <p:cTn id="14" dur="20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stretch/>
        </p:blipFill>
        <p:spPr>
          <a:xfrm>
            <a:off x="5257800" y="2133720"/>
            <a:ext cx="709560" cy="7095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5b2</cp:lastModifiedBy>
  <dcterms:modified xsi:type="dcterms:W3CDTF">2012-06-19T11:00:13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